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2A5-C072-420A-84E6-84581C6D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706-03D3-413C-AF23-3BB788C1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A37-065A-420F-826C-450A521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F90-C29B-428D-B174-A5BBC341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6C24-AA59-4A70-B259-4E7D9E00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9E8E-E8DA-4420-9F0E-E44C3DF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628-7686-4F58-91A5-D01D585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781E-22C1-4165-AF6D-DFFCF134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F848-CBB6-4269-A8F9-65B5C323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8471-5034-4CEC-A3D0-BB5515E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188-95B2-4A6E-B17D-9601AA5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D36-F2DA-446F-8B3B-B56B35D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F3BE-9DE3-4EBC-9D74-73EA111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DA0B-BD90-45CE-8563-8864D87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002-C9D6-4ADB-BB00-2E58B61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F81-E161-41BB-99BD-573D904C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2B7E-9EB2-4A4F-921D-EAE678A7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297-2FB3-43A2-A600-867C6BA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209-16AC-4428-B477-9B7D827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BBC-AA79-4E4E-9017-E71F81CE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2D3-1BF8-43CD-880B-D6CB641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705-AA39-4D9D-9D5E-1A5F5B2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736-16C1-4DEA-A49E-586173F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E0F-D8D3-4CCC-B5CB-614EE43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D7FC-0F94-43B8-AD53-44BDB0C51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596-F123-4D4C-B11A-5AB56C732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pong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sponges mov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 Adult sponges are sessi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y are young, larvae move through currents to find a suitable habit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ttach and grow when they find an area to l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962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do they like to liv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ve in the shallow waters near the shoreline of saltwater or fresh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live in colonies (group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duction in Spon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ponges reproduce sex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ponges are hermaphrodites (have male and female reproductive part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gs are released in the water by one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rm are released by another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gg is fertilized and becomes the larvae that travels until it finds a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sponges protect themselv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modes of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cules—spiny processes that deter other animals from eating the spo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s—released to deter animals and even harm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are sponges important to human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cals used for protection are being researched to provide treatments and cures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lring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a sheet of paper.  Fold it for Cornell notes.  Answer this question at the top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words that you think of when you think about a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n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 to the Phylum:  Pori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fera comes from Latin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us—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re—ca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652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Porifera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ges are named for the way that sponges get their foo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ges filter f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iphon materials in through their pores (hol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lter the water to get food and absorb the food into thei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they look l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ous (filled with lots of empty sp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many different colors (red, blue, yellow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nd or tube sh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al body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es a spong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habitat for worms, shrimp, snails, and sea st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habitat for photosynthetic bacteria and pro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food source for some snails, sea stars,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es a sponge ea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ide of the two sponge layers is lined with specialized cells called colla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r cells beat flagella so that water will run through the pores of the spo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pull the food and oxygen out of the water so that the sponge can use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does a sponge need oxy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portant cell process uses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the cell complete this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swer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re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lease energy for use in the cell and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7:50Z</dcterms:created>
  <dc:creator>kmcgrady</dc:creator>
  <dc:description/>
  <dc:language>en-US</dc:language>
  <cp:lastModifiedBy>kmcgrady</cp:lastModifiedBy>
  <dcterms:modified xsi:type="dcterms:W3CDTF">2010-11-22T21:00:36Z</dcterms:modified>
  <cp:revision>4</cp:revision>
  <dc:subject/>
  <dc:title>Sponges</dc:title>
</cp:coreProperties>
</file>